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EA6-ACE1-4A90-B05E-7A39745F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9A1-DAA1-4BCE-A02C-7724D734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364-31EC-409E-AA24-BAEC75ED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8D4-9C15-4075-A8C1-039107A3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1D6-00E2-49EA-AB94-E2E933B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AE6-5AFB-4549-949E-A3D3D754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425-E318-4958-8B35-4AA1189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667-333A-40F2-A199-F43C054D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120-7F78-4B88-8111-A2AA327B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04D-15DB-4014-8D80-89B102C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A9A-1F9F-408E-AF9F-634FAEA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468-8382-49D7-B0AD-EE495D1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85CA-DE9B-4DF0-8DB5-F1C87ECC0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c.org/focus/strategies/summ.php" TargetMode="External"/><Relationship Id="rId3" Type="http://schemas.openxmlformats.org/officeDocument/2006/relationships/hyperlink" Target="http://www.netc.org/focus/strategies/summ.php" TargetMode="External"/><Relationship Id="rId4" Type="http://schemas.openxmlformats.org/officeDocument/2006/relationships/hyperlink" Target="http://www.netc.org/focus/strategies/summ.php" TargetMode="External"/><Relationship Id="rId5" Type="http://schemas.openxmlformats.org/officeDocument/2006/relationships/hyperlink" Target="http://www.netc.org/focus/strategies/summ.php" TargetMode="External"/><Relationship Id="rId6" Type="http://schemas.openxmlformats.org/officeDocument/2006/relationships/hyperlink" Target="http://www.netc.org/focus/strategies/summ.php" TargetMode="External"/><Relationship Id="rId7" Type="http://schemas.openxmlformats.org/officeDocument/2006/relationships/hyperlink" Target="http://www.netc.org/focus/strategies/summ.php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c.org/focus/strategies/summ.php" TargetMode="External"/><Relationship Id="rId3" Type="http://schemas.openxmlformats.org/officeDocument/2006/relationships/hyperlink" Target="http://www.netc.org/focus/strategies/summ.php" TargetMode="External"/><Relationship Id="rId4" Type="http://schemas.openxmlformats.org/officeDocument/2006/relationships/hyperlink" Target="http://www.netc.org/focus/strategies/summ.php" TargetMode="External"/><Relationship Id="rId5" Type="http://schemas.openxmlformats.org/officeDocument/2006/relationships/hyperlink" Target="http://www.netc.org/focus/strategies/summ.php" TargetMode="External"/><Relationship Id="rId6" Type="http://schemas.openxmlformats.org/officeDocument/2006/relationships/hyperlink" Target="http://www.netc.org/focus/strategies/summ.php" TargetMode="External"/><Relationship Id="rId7" Type="http://schemas.openxmlformats.org/officeDocument/2006/relationships/hyperlink" Target="http://www.netc.org/focus/strategies/summ.php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Study Smarter, Not Ha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Amanda Bax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Chris Hatha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Sarah Hudzi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Sam L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Ryan Nettesheim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Research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Knight &amp; McKelvie (1986)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who reviewed notes did the best on assessments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re was no significant difference between students who did not review notes and students who did not take any notes at all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Mor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When students review and revise their own notes, the notes become more meaningful and useful (Anderson &amp; Armbruster, 1986; Denner, 1986; Einstein, Morris, &amp; Smith, 1985). from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2"/>
              </a:rPr>
              <a:t>http://www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3"/>
              </a:rPr>
              <a:t>netc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5"/>
              </a:rPr>
              <a:t>org/focus/strategies/summ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7"/>
              </a:rPr>
              <a:t>php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iewra &amp; Frank (1988) believ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value of note-taking is not in recording the n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’s in storing the information and reviewing it la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Even Mor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 their study, Kiewra &amp; Frank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taking personal notes recorded 24% of crucial lecture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using a skeletal outline recorded 27% of crucial lecture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mpared to full lecturer’s no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Write this dow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142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udents recorded up to 88% of the lecture information when it was written on the board.” (Boyle, 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Pros &amp;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viding lecture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5640" y="25905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ich did you like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Students create their 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Berheide, Catherine White "Notetaking and Review: The Research and Its Implications."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Teaching Sociology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 18.1 (1990): 135.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Education Research Complet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. EBSCO. Web. 14 Nov. 200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Boyle, J. R. (2007). The Process of Note Taking: Implications for Students with Mild Disabilities. Clearing House, 80(5), 227-232. Retrieved November 21, 2009, from Education Research Complete (2589179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iewra, K. A., &amp; Frank, B. M. (1988). Encoding and External-Storage Effects of Personal Lecture Notes, Skeletal Notes, and Detailed Notes for Field-Independent and Field-Dependent Learners. Journal of Educational Research, 81(3). Retrieved November 21, 2009, from Education Research Complete (500700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Mor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night, L. J., &amp; McKelvie, S. J. (1986). Effects of attendance, note-taking, and review on memory for a lecture: Encoding vs. external storage functions of notes. Canadian Journal of Behavioural Science, 18(1), 52-61. Retrieved November 21, 2009, from PsychINFO (1987-08702-00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obayashi, K. (2006). Combined Effects of Note-Taking/-Reviewing on Learning and the Enhancement through Interventions: A Meta-Analytic Review. Educational Psychology, 26(3), 459-477. Retrieved November 21, 2009, from ERIC (EJ722157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Northwest Regional Educational Laboratory. (2005).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Summarizing and Note Taking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. Retrieved November 28, 2009, from http://www.netc.org/focus/strategies/summ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Quick Po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o thinks they will spend at least 50% of class time “lecturing” to your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A Short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alf of you will get a skeleton ou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other half will have to take your own no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Process &amp; Product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do those terms mean to note-t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rainstorm, quick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ocess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“encoding” (Stahl, King, &amp; Hank, 1991)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actually recording the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oduct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“external storage” (Stahl, King, &amp; Hank, 19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iewing the notes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y teach note-ta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t is a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teachable skill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ew students are taught 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t involves “listening, processing, and writing skills simultaneously” (Boyle, 2007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eachers ar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Why should a teacher provide good, accurate notes for stud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eacher-prepared notes show students what is important and how ideas relate, and offer a model for how students should take notes themselves.” (Marzano, et al, 2001 from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2"/>
              </a:rPr>
              <a:t>www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3"/>
              </a:rPr>
              <a:t>netc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5"/>
              </a:rPr>
              <a:t>org/focus/strategies/summ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7"/>
              </a:rPr>
              <a:t>php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eacher’s example “directs the notetakers’ attention to what they should write down in their notes.” (Kobayashi, 200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A Note on Neatness</a:t>
            </a:r>
            <a:br>
              <a:rPr sz="4400"/>
            </a:b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(no pun intend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es that teachers provide need to be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neat and organiz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students can’t read them, they won’t be able to use them lat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t with People around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will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, as a teacher, do to provide the best notes and note-taking opportunities for your studen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 will they succeed using your not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Jot down a few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he Prod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Why encourage students to review not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Any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The research shows (time and again) that </a:t>
            </a:r>
            <a:r>
              <a:rPr b="0" i="1" lang="en-US" sz="3000" spc="-1" strike="noStrike">
                <a:solidFill>
                  <a:srgbClr val="ffffff"/>
                </a:solidFill>
                <a:latin typeface="Chalkboard"/>
              </a:rPr>
              <a:t>reviewing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notes is more beneficial than taking notes </a:t>
            </a:r>
            <a:r>
              <a:rPr b="0" i="1" lang="en-US" sz="3000" spc="-1" strike="noStrike">
                <a:solidFill>
                  <a:srgbClr val="ffffff"/>
                </a:solidFill>
                <a:latin typeface="Chalkboard"/>
              </a:rPr>
              <a:t>without using them again 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la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So, if you won’t review the notes later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halkboard"/>
              </a:rPr>
              <a:t>don’t bother taking the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01:49Z</dcterms:created>
  <dc:creator>UW Oshkosh</dc:creator>
  <dc:description/>
  <dc:language>en-US</dc:language>
  <cp:lastModifiedBy>Sarah Hudziak</cp:lastModifiedBy>
  <dcterms:modified xsi:type="dcterms:W3CDTF">2009-11-28T18:04:34Z</dcterms:modified>
  <cp:revision>13</cp:revision>
  <dc:subject/>
  <dc:title>Slide 1</dc:title>
</cp:coreProperties>
</file>